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A9C78-8882-48CE-91CD-011DEFEFF9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A8F2D-04A6-4F25-9ECA-FC96DD7A66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hows the first missionary journey of Paul as described in Acts chapters 13 and 1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8818-369F-48C5-9153-FA47C8B49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DC43-CBBE-41FE-9382-EB82540C0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4F11-4EB2-4442-BF1D-C4B234B51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CEA3-3A2E-465B-A760-008C353A1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DC562-297E-4001-86FC-D5A3254E1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03EEC-A0BC-41F3-8F95-CEFD0A86E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B6F73-09F1-4D78-BD41-4D0A3D2F4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2866B-FE71-48BB-9A93-219DC6D19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9CD6D-533D-4844-A8B3-60AA1752F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78366-633E-4CBA-A473-949D44A38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DD3F0-1FFD-44DC-B0F2-75631D3AA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C8CF-5F02-4768-A5AA-597CD1E7F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75449-87FD-42EA-A764-676A1EE5C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A4CC0-7C8A-4362-A41A-B66B8E8E4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0E5A7-DC9B-49E8-8CF5-264D67040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FE61D-3311-417E-AB37-4365ABAF3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775E1-FDE4-4E2E-A55F-ED20B478C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6B6A-C3E1-4DB6-B4E8-5755D2584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2BF4-3CC8-4014-A571-D88DD37C2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747B-3F46-4317-BDF3-977B187B0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E7E2-2CF4-4CB7-86A2-C1816A86E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C280-2C58-4FAB-9317-951915800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0ACA-6BCD-44A1-9B4B-B8EEDA7A6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9CFC-9E0F-4AFA-9CD1-ACB207B6E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5ACE4-285F-49EB-BDEA-6738A460024E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97A4F-4F8C-4418-91EE-E4C98096FEC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Go Tell The Good News”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Part 1- Review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arter 11, Lesson 2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ts 1:1 – 18:2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ges 9-11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0174D-34D9-4674-BFF9-AC64DF613773}" type="slidenum">
              <a:t>1</a:t>
            </a:fld>
          </a:p>
        </p:txBody>
      </p:sp>
    </p:spTree>
  </p:cSld>
  <p:transition spd="med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The Church Is Scattered</a:t>
            </a:r>
            <a:br>
              <a:rPr sz="4000"/>
            </a:b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Acts 8-12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gospel spread to Antio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911E-159A-4780-B205-1B1E1C3F2C71}" type="slidenum">
              <a:t>10</a:t>
            </a:fld>
          </a:p>
        </p:txBody>
      </p:sp>
    </p:spTree>
  </p:cSld>
  <p:transition spd="med">
    <p:circle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1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28680" cy="39625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2133720" y="1295280"/>
            <a:ext cx="7010280" cy="55627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3581280" y="457200"/>
            <a:ext cx="3981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ntioch of Syr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33FF-183B-4C5D-9264-3EA6863F4E2A}" type="slidenum">
              <a:t>11</a:t>
            </a:fld>
          </a:p>
        </p:txBody>
      </p:sp>
    </p:spTree>
  </p:cSld>
  <p:transition spd="med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The Church Is Scattered</a:t>
            </a:r>
            <a:br>
              <a:rPr sz="4000"/>
            </a:b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Acts 8-12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gospel spread to Antio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name “Christian” first us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church at Antioch sent relief to the saints in Jerusalem because of a fam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ames, brother of John, put to dea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ter jailed but released by an ang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d struck Herod (eaten with worms) for accepting honor as a g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5A50-1772-407E-8916-1658F02452CC}" type="slidenum">
              <a:t>12</a:t>
            </a:fld>
          </a:p>
        </p:txBody>
      </p:sp>
    </p:spTree>
  </p:cSld>
  <p:transition spd="med">
    <p:circle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8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3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8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3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8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The First Missionary Journey</a:t>
            </a:r>
            <a:br>
              <a:rPr sz="4000"/>
            </a:b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Acts 13-14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d called Barnabas and Saul for a preaching tour of lower Asia Min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ul’s name changed to Paul on Cypr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preached in many ci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ews and Gentiles conver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erce opposition arose from unbeliev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ul stoned at Lyst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ders appointed in every chur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CF07-2330-43EE-9BDB-2FDC938702F2}" type="slidenum">
              <a:t>13</a:t>
            </a:fld>
          </a:p>
        </p:txBody>
      </p:sp>
    </p:spTree>
  </p:cSld>
  <p:transition spd="med">
    <p:circle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5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0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5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8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1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4" dur="5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7" dur="5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"/>
          <p:cNvGrpSpPr/>
          <p:nvPr/>
        </p:nvGrpSpPr>
        <p:grpSpPr>
          <a:xfrm>
            <a:off x="0" y="0"/>
            <a:ext cx="11701080" cy="6872400"/>
            <a:chOff x="0" y="0"/>
            <a:chExt cx="11701080" cy="6872400"/>
          </a:xfrm>
        </p:grpSpPr>
        <p:grpSp>
          <p:nvGrpSpPr>
            <p:cNvPr id="144" name=""/>
            <p:cNvGrpSpPr/>
            <p:nvPr/>
          </p:nvGrpSpPr>
          <p:grpSpPr>
            <a:xfrm>
              <a:off x="0" y="0"/>
              <a:ext cx="11701080" cy="6872400"/>
              <a:chOff x="0" y="0"/>
              <a:chExt cx="11701080" cy="6872400"/>
            </a:xfrm>
          </p:grpSpPr>
          <p:pic>
            <p:nvPicPr>
              <p:cNvPr id="145" name="" descr=""/>
              <p:cNvPicPr/>
              <p:nvPr/>
            </p:nvPicPr>
            <p:blipFill>
              <a:blip r:embed="rId1"/>
              <a:srcRect l="0" t="212" r="0" b="-196"/>
              <a:stretch/>
            </p:blipFill>
            <p:spPr>
              <a:xfrm>
                <a:off x="0" y="0"/>
                <a:ext cx="9144000" cy="6872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46" name=""/>
              <p:cNvGrpSpPr/>
              <p:nvPr/>
            </p:nvGrpSpPr>
            <p:grpSpPr>
              <a:xfrm>
                <a:off x="6480" y="17640"/>
                <a:ext cx="11694600" cy="6368400"/>
                <a:chOff x="6480" y="17640"/>
                <a:chExt cx="11694600" cy="636840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1658880" y="2298600"/>
                  <a:ext cx="149400" cy="177840"/>
                </a:xfrm>
                <a:prstGeom prst="star5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600" bIns="126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1756800" y="2116080"/>
                  <a:ext cx="1542240" cy="51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ffff"/>
                      </a:solidFill>
                      <a:latin typeface="Arial"/>
                    </a:rPr>
                    <a:t>Iconium</a:t>
                  </a: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330960" y="3932280"/>
                  <a:ext cx="216000" cy="216000"/>
                </a:xfrm>
                <a:prstGeom prst="star5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560" bIns="25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281960" y="1663560"/>
                  <a:ext cx="3201840" cy="51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ffff"/>
                      </a:solidFill>
                      <a:latin typeface="Arial"/>
                    </a:rPr>
                    <a:t>Antioch (Pisidian)</a:t>
                  </a: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6609240" y="3614760"/>
                  <a:ext cx="1882080" cy="63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ffffff"/>
                      </a:solidFill>
                      <a:latin typeface="Arial"/>
                    </a:rPr>
                    <a:t>Antioch</a:t>
                  </a:r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434960" y="2575080"/>
                  <a:ext cx="173160" cy="172800"/>
                </a:xfrm>
                <a:prstGeom prst="star5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160" bIns="111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1565640" y="2562120"/>
                  <a:ext cx="109584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Lystra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1801800" y="3003480"/>
                  <a:ext cx="139680" cy="139680"/>
                </a:xfrm>
                <a:prstGeom prst="star5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1899720" y="2976480"/>
                  <a:ext cx="104400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Derbe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flipH="1">
                  <a:off x="6006960" y="4167360"/>
                  <a:ext cx="330480" cy="20304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 flipH="1">
                  <a:off x="1359000" y="4395960"/>
                  <a:ext cx="4673520" cy="119376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 flipH="1" flipV="1">
                  <a:off x="216000" y="5513400"/>
                  <a:ext cx="1092240" cy="10152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 flipV="1">
                  <a:off x="165240" y="3026880"/>
                  <a:ext cx="7920" cy="235908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V="1">
                  <a:off x="227160" y="2812680"/>
                  <a:ext cx="117360" cy="16812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 flipV="1">
                  <a:off x="1211040" y="1932120"/>
                  <a:ext cx="515880" cy="43488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 flipH="1">
                  <a:off x="372600" y="2023920"/>
                  <a:ext cx="839880" cy="68904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1139760" y="1860480"/>
                  <a:ext cx="182520" cy="173160"/>
                </a:xfrm>
                <a:prstGeom prst="star5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586440" y="4162320"/>
                  <a:ext cx="4072320" cy="63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3600" spc="-1" strike="noStrike">
                      <a:solidFill>
                        <a:srgbClr val="ffffff"/>
                      </a:solidFill>
                      <a:latin typeface="Arial"/>
                    </a:rPr>
                    <a:t>Mediterranean Sea</a:t>
                  </a:r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54720" y="5748480"/>
                  <a:ext cx="1757160" cy="63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ffffff"/>
                      </a:solidFill>
                      <a:latin typeface="Arial"/>
                    </a:rPr>
                    <a:t>Cyprus</a:t>
                  </a:r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6026040" y="4237200"/>
                  <a:ext cx="216000" cy="139680"/>
                </a:xfrm>
                <a:prstGeom prst="star5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6151680" y="4286160"/>
                  <a:ext cx="141732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Seleucia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1225440" y="5532480"/>
                  <a:ext cx="216000" cy="139680"/>
                </a:xfrm>
                <a:prstGeom prst="star5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1428120" y="5581800"/>
                  <a:ext cx="141732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Salamas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6480" y="5456160"/>
                  <a:ext cx="215640" cy="139680"/>
                </a:xfrm>
                <a:prstGeom prst="star5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132120" y="5124600"/>
                  <a:ext cx="128016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Paphos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207360" y="2914560"/>
                  <a:ext cx="111420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Attalia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82440" y="2941560"/>
                  <a:ext cx="216000" cy="139680"/>
                </a:xfrm>
                <a:prstGeom prst="star5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389520" y="2523960"/>
                  <a:ext cx="102744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Perga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263520" y="2679840"/>
                  <a:ext cx="216000" cy="139680"/>
                </a:xfrm>
                <a:prstGeom prst="star5">
                  <a:avLst/>
                </a:prstGeom>
                <a:solidFill>
                  <a:srgbClr val="fc0128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 flipV="1">
                  <a:off x="1550880" y="2450880"/>
                  <a:ext cx="117720" cy="16812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flipH="1" flipV="1">
                  <a:off x="1521000" y="2698920"/>
                  <a:ext cx="320400" cy="38232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239760" y="3211560"/>
                  <a:ext cx="11461320" cy="1060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25560">
                  <a:solidFill>
                    <a:srgbClr val="fafd00"/>
                  </a:solidFill>
                  <a:custDash>
                    <a:ds d="499000" sp="201000"/>
                    <a:ds d="199000" sp="20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4555800" y="17640"/>
                  <a:ext cx="4256640" cy="57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99"/>
                      </a:solidFill>
                      <a:latin typeface="Times New Roman"/>
                    </a:rPr>
                    <a:t>1st Missionary Journey</a:t>
                  </a: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5528880" y="353880"/>
                  <a:ext cx="2412720" cy="57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99"/>
                      </a:solidFill>
                      <a:latin typeface="Times New Roman"/>
                    </a:rPr>
                    <a:t>Acts 13 &amp; 14</a:t>
                  </a:r>
                  <a:endParaRPr b="0" lang="en-US" sz="3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5055840" y="1351080"/>
                  <a:ext cx="4017240" cy="63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600" spc="-1" strike="noStrike">
                      <a:solidFill>
                        <a:srgbClr val="fafd00"/>
                      </a:solidFill>
                      <a:latin typeface="Times New Roman"/>
                    </a:rPr>
                    <a:t>Modern Day Turkey</a:t>
                  </a:r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flipH="1">
                  <a:off x="3200400" y="5094360"/>
                  <a:ext cx="177840" cy="12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 flipH="1">
                  <a:off x="558720" y="5564160"/>
                  <a:ext cx="177840" cy="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V="1">
                  <a:off x="165240" y="4471920"/>
                  <a:ext cx="0" cy="15264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2387520" y="4154400"/>
                  <a:ext cx="127080" cy="1296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5725800" y="6080040"/>
                  <a:ext cx="2007360" cy="3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Satellite Image - NASA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7" name=""/>
            <p:cNvSpPr/>
            <p:nvPr/>
          </p:nvSpPr>
          <p:spPr>
            <a:xfrm>
              <a:off x="0" y="73080"/>
              <a:ext cx="16891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 Narrow"/>
                </a:rPr>
                <a:t>©  EBibleTeacher.com 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867440" y="420480"/>
            <a:ext cx="10285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000066"/>
                </a:solidFill>
                <a:latin typeface="Arial Narrow"/>
              </a:rPr>
              <a:t>Paul-1st Missionary Journey</a:t>
            </a:r>
            <a:endParaRPr b="0" lang="en-US" sz="1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9" name=""/>
          <p:cNvSpPr/>
          <p:nvPr/>
        </p:nvSpPr>
        <p:spPr>
          <a:xfrm>
            <a:off x="8288280" y="6491160"/>
            <a:ext cx="8604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Franklin Gothic Heavy"/>
                <a:hlinkClick r:id="rId2" action="ppaction://hlinksldjump"/>
              </a:rPr>
              <a:t>INDE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C0FB-3DAF-4663-857E-40CC11692E28}" type="slidenum">
              <a:t>14</a:t>
            </a:fld>
          </a:p>
        </p:txBody>
      </p:sp>
    </p:spTree>
  </p:cSld>
  <p:transition spd="med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The “Conference” in Jerusalem</a:t>
            </a:r>
            <a:br>
              <a:rPr sz="4000"/>
            </a:b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Acts 15:1-35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y Gentiles had been conver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ws insisted on circumcising th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ul and Barnabas met with the apostles and elders at Jerusal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ter defended Paul’s position that they did not need to be circumcis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ames, brother of Jesus, and the church agreed and sent a letter to Antio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udas and Silas confirmed the let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A651-B697-4324-8F7B-0ADEF5C74D86}" type="slidenum">
              <a:t>15</a:t>
            </a:fld>
          </a:p>
        </p:txBody>
      </p:sp>
    </p:spTree>
  </p:cSld>
  <p:transition spd="med">
    <p:circle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The Second Missionary Journey</a:t>
            </a:r>
            <a:br>
              <a:rPr sz="4000"/>
            </a:b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Acts 15:36 – 18:22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ul took Silas as his compan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rted through Syria and Cilicia confirming the church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n to Derbe and Lyst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imothy joined them at Lyst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ul saw a vis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man from Macedonia called for hel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uke joined them at Tro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D0D0-2636-462D-83E3-4EC19F021F2D}" type="slidenum">
              <a:t>16</a:t>
            </a:fld>
          </a:p>
        </p:txBody>
      </p:sp>
    </p:spTree>
  </p:cSld>
  <p:transition spd="med">
    <p:circle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The Second Missionary Journey</a:t>
            </a:r>
            <a:br>
              <a:rPr sz="4000"/>
            </a:b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Acts 15:36 – 18:22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t Philipp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ydia and her household converte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ul cast a demon out of a gir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ul and Silas beaten with rods and jail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ailer and his household conver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 to Thessalonica and Bere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rted churches but opposition was gre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CC74-2696-4242-AE7C-9DBECD3A05EC}" type="slidenum">
              <a:t>17</a:t>
            </a:fld>
          </a:p>
        </p:txBody>
      </p:sp>
    </p:spTree>
  </p:cSld>
  <p:transition spd="med">
    <p:circle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0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5" dur="1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0" dur="1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5" dur="10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0" dur="10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7" dur="10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2" dur="10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4658-A5D0-4AFB-A802-98DB9D1D425E}" type="slidenum">
              <a:t>18</a:t>
            </a:fld>
          </a:p>
        </p:txBody>
      </p:sp>
    </p:spTree>
  </p:cSld>
  <p:transition spd="med"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The Second Missionary Journey</a:t>
            </a:r>
            <a:br>
              <a:rPr sz="4000"/>
            </a:b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Acts 15:36 – 18:22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t Athens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dolatry and philosophy rampa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DB43-1C85-4C47-B361-5C10E3415A00}" type="slidenum">
              <a:t>19</a:t>
            </a:fld>
          </a:p>
        </p:txBody>
      </p:sp>
    </p:spTree>
  </p:cSld>
  <p:transition spd="med">
    <p:circle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1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6" dur="1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The Book of Acts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uke: Physician/Histori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rote Gospel of Luke – 58-60 A.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rote book of Acts – 61-64 A.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ts 1-12 covers Peter’s activi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ts 13-28 covers Paul’s activi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662B-2A29-479D-A39A-13D22CB062F2}" type="slidenum">
              <a:t>2</a:t>
            </a:fld>
          </a:p>
        </p:txBody>
      </p:sp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57800" cy="35100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0" y="3562200"/>
            <a:ext cx="4952880" cy="32958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5181480" y="0"/>
            <a:ext cx="3962520" cy="30337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4876920" y="3633840"/>
            <a:ext cx="4267080" cy="32241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 txBox="1"/>
          <p:nvPr/>
        </p:nvSpPr>
        <p:spPr>
          <a:xfrm>
            <a:off x="3733920" y="320040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the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04" name=""/>
          <p:cNvSpPr/>
          <p:nvPr/>
        </p:nvSpPr>
        <p:spPr>
          <a:xfrm>
            <a:off x="6477120" y="32004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rs H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1D20-F12F-4540-8CEA-7D8ED436F80B}" type="slidenum">
              <a:t>20</a:t>
            </a:fld>
          </a:p>
        </p:txBody>
      </p:sp>
    </p:spTree>
  </p:cSld>
  <p:transition spd="med">
    <p:circl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The Second Missionary Journey</a:t>
            </a:r>
            <a:br>
              <a:rPr sz="4000"/>
            </a:b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Acts 15:36 – 18:22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t Corin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ny converted from pagani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ul wrote his first epistles from Corin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tters to the Thessalonia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ul brought before Galli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man persuades men to worship God contrary to the law.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C6BA-B9C7-49A9-9B2C-59202A12F6F7}" type="slidenum">
              <a:t>21</a:t>
            </a:fld>
          </a:p>
        </p:txBody>
      </p:sp>
    </p:spTree>
  </p:cSld>
  <p:transition spd="med">
    <p:circle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5" dur="1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0" dur="10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7" dur="10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2" dur="10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9" dur="10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4" dur="1000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62485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2438280" y="1522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mains of Ancient Corin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121932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Temple of Apollo, about 540 B.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A727-68C6-4CC3-968E-B5A79D3BC2DF}" type="slidenum">
              <a:t>22</a:t>
            </a:fld>
          </a:p>
        </p:txBody>
      </p:sp>
    </p:spTree>
  </p:cSld>
  <p:transition spd="med">
    <p:circl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09588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 txBox="1"/>
          <p:nvPr/>
        </p:nvSpPr>
        <p:spPr>
          <a:xfrm>
            <a:off x="0" y="152280"/>
            <a:ext cx="60199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Unicode MS"/>
              </a:rPr>
              <a:t>The Corinth Canal</a:t>
            </a:r>
            <a:endParaRPr b="0" lang="en-US" sz="32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212" name=""/>
          <p:cNvSpPr/>
          <p:nvPr/>
        </p:nvSpPr>
        <p:spPr>
          <a:xfrm>
            <a:off x="6248520" y="121932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pleted in 189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BE4E-2036-4637-A270-67EB7331A350}" type="slidenum">
              <a:t>23</a:t>
            </a:fld>
          </a:p>
        </p:txBody>
      </p:sp>
    </p:spTree>
  </p:cSld>
  <p:transition spd="med">
    <p:circl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The Second Missionary Journey</a:t>
            </a:r>
            <a:br>
              <a:rPr sz="4000"/>
            </a:b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Acts 15:36 – 18:22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then went to Ephesus, Jerusalem and back to Antio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DFA9-7E9D-4ED1-AC12-AEFE56D9DFAF}" type="slidenum">
              <a:t>24</a:t>
            </a:fld>
          </a:p>
        </p:txBody>
      </p:sp>
    </p:spTree>
  </p:cSld>
  <p:transition spd="med">
    <p:circle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3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04920" y="1828800"/>
            <a:ext cx="1295280" cy="609480"/>
          </a:xfrm>
          <a:prstGeom prst="ellipse">
            <a:avLst/>
          </a:prstGeom>
          <a:noFill/>
          <a:ln w="442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447920" y="49528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aul’s Second Journ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086600" y="685800"/>
            <a:ext cx="1295280" cy="304920"/>
          </a:xfrm>
          <a:prstGeom prst="rect">
            <a:avLst/>
          </a:prstGeom>
          <a:noFill/>
          <a:ln w="442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858000" y="6248520"/>
            <a:ext cx="1295280" cy="609480"/>
          </a:xfrm>
          <a:prstGeom prst="ellipse">
            <a:avLst/>
          </a:prstGeom>
          <a:noFill/>
          <a:ln w="442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0" y="457200"/>
            <a:ext cx="1523880" cy="304920"/>
          </a:xfrm>
          <a:prstGeom prst="rect">
            <a:avLst/>
          </a:prstGeom>
          <a:noFill/>
          <a:ln w="442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A46C-FB21-46DA-8F0B-B441CDC3570D}" type="slidenum">
              <a:t>25</a:t>
            </a:fld>
          </a:p>
        </p:txBody>
      </p:sp>
    </p:spTree>
  </p:cSld>
  <p:transition spd="med">
    <p:circle/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2800"/>
                            </p:stCondLst>
                            <p:childTnLst>
                              <p:par>
                                <p:cTn id="48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4800"/>
                            </p:stCondLst>
                            <p:childTnLst>
                              <p:par>
                                <p:cTn id="49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66667E-006 1.11111E-006 C -0.03489 -0.01297 -0.01562 -0.00741 -0.08871 -0.00209 C -0.09201 -0.00185 -0.09826 0.00208 -0.09826 0.00208 C -0.10694 0.00995 -0.09913 0.00416 -0.11128 0.00856 C -0.11458 0.00972 -0.12083 0.01296 -0.12083 0.01296 C -0.12603 0.01759 -0.1309 0.02106 -0.13697 0.02361 C -0.13992 0.02754 -0.14392 0.03009 -0.14669 0.03449 C -0.14826 0.03703 -0.14878 0.04028 -0.14999 0.04305 C -0.1552 0.05463 -0.15919 0.06203 -0.16614 0.07106 C -0.1651 0.12453 -0.16996 0.18009 -0.14669 0.22592 C -0.1427 0.24236 -0.14808 0.22222 -0.14183 0.23866 C -0.14114 0.24074 -0.14149 0.24352 -0.14027 0.24514 C -0.13906 0.24676 -0.13697 0.24676 -0.13541 0.24745 C -0.13176 0.26227 -0.12517 0.26528 -0.1144 0.26875 C -0.10294 0.27916 -0.08298 0.27662 -0.07083 0.27754 C -0.05468 0.27616 -0.03853 0.27546 -0.02256 0.27315 C 0.0073 0.26852 0.01424 0.21227 0.02744 0.18495 C 0.03022 0.17106 0.03386 0.15787 0.03716 0.14421 C 0.03872 0.10023 0.03091 0.10139 0.05487 0.09259 C 0.05174 0.08981 0.04844 0.0868 0.04532 0.08403 C 0.04376 0.08264 0.04046 0.07963 0.04046 0.07963 C 0.03768 0.06944 0.03091 0.05972 0.02431 0.0537 C 0.02327 0.05092 0.02275 0.04745 0.02101 0.04514 C 0.01928 0.04282 0.01667 0.04259 0.01459 0.04097 C 0.01285 0.03958 0.01112 0.03842 0.00973 0.03657 C -0.00242 0.02037 0.01147 0.03403 6.66667E-006 0.02361 C -0.00209 0.01967 -0.00954 0.00879 -0.00954 0.00208 E">
                                      <p:cBhvr>
                                        <p:cTn id="492" dur="2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6800"/>
                            </p:stCondLst>
                            <p:childTnLst>
                              <p:par>
                                <p:cTn id="49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3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3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3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3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9800"/>
                            </p:stCondLst>
                            <p:childTnLst>
                              <p:par>
                                <p:cTn id="50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5.18519E-006 C -0.01059 -0.00672 -0.00347 -0.00163 -0.01597 -0.01297 C -0.01753 -0.01436 -0.02083 -0.01714 -0.02083 -0.01714 C -0.02882 -0.03844 -0.02569 -0.02825 -0.03055 -0.04723 C -0.02934 -0.08496 -0.03021 -0.11714 -0.01441 -0.14839 C -0.01198 -0.15881 -0.00989 -0.16459 -0.00642 -0.17408 C -0.00312 -0.18288 -0.00243 -0.19168 0.00174 -0.20001 C 0.00382 -0.21181 0.00903 -0.22223 0.01146 -0.23427 C 0.01389 -0.24631 0.01597 -0.25857 0.01788 -0.27084 C 0.02049 -0.3132 0.01754 -0.35857 0.03229 -0.39769 E">
                                      <p:cBhvr>
                                        <p:cTn id="502" dur="3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2800"/>
                            </p:stCondLst>
                            <p:childTnLst>
                              <p:par>
                                <p:cTn id="50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664 -0.39584 C 0.03838 -0.41922 0.03542 -0.44561 0.04306 -0.46667 C 0.03386 -0.47292 0.03334 -0.47014 0.02379 -0.46667 C 0.02015 -0.46991 0.01529 -0.47107 0.01251 -0.47547 C 0.00435 -0.4882 0.01042 -0.50024 -0.00694 -0.50764 C -0.00815 -0.51042 -0.01232 -0.51991 -0.01492 -0.52061 C -0.01822 -0.52153 -0.02152 -0.51945 -0.02464 -0.51829 C -0.02794 -0.51714 -0.03437 -0.51413 -0.03437 -0.51413 C -0.02708 -0.52871 -0.0243 -0.52848 -0.03263 -0.52477 C -0.03211 -0.52269 -0.0302 -0.52014 -0.03107 -0.51829 C -0.03194 -0.51644 -0.04044 -0.51274 -0.04235 -0.51181 C -0.04339 -0.50973 -0.04426 -0.50741 -0.04565 -0.50556 C -0.04756 -0.50302 -0.05034 -0.50186 -0.05208 -0.49908 C -0.05312 -0.49723 -0.0526 -0.49445 -0.05364 -0.4926 C -0.05537 -0.48982 -0.05937 -0.48959 -0.06006 -0.48612 C -0.06162 -0.47848 -0.06006 -0.47038 -0.06006 -0.46251 E">
                                      <p:cBhvr>
                                        <p:cTn id="505" dur="3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15800"/>
                            </p:stCondLst>
                            <p:childTnLst>
                              <p:par>
                                <p:cTn id="50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007 -0.46251 C -0.06111 -0.47547 -0.06163 -0.48844 -0.06336 -0.50117 C -0.06371 -0.50371 -0.06562 -0.50533 -0.06649 -0.50765 C -0.07586 -0.5308 -0.0776 -0.53844 -0.09548 -0.5507 C -0.10729 -0.55001 -0.11927 -0.54978 -0.13107 -0.54862 C -0.14253 -0.54746 -0.15277 -0.5382 -0.16336 -0.53357 C -0.16909 -0.52825 -0.17604 -0.52339 -0.18263 -0.52061 C -0.18836 -0.51529 -0.19531 -0.51228 -0.20034 -0.50556 C -0.20798 -0.49538 -0.19965 -0.50163 -0.20677 -0.497 E">
                                      <p:cBhvr>
                                        <p:cTn id="508" dur="3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8800"/>
                            </p:stCondLst>
                            <p:childTnLst>
                              <p:par>
                                <p:cTn id="51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0676 -0.49699 C -0.20833 -0.49838 -0.21041 -0.49931 -0.21162 -0.50116 C -0.21423 -0.50509 -0.21475 -0.51134 -0.21805 -0.51412 C -0.22378 -0.51898 -0.22291 -0.51574 -0.22291 -0.52269 E">
                                      <p:cBhvr>
                                        <p:cTn id="511" dur="3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21800"/>
                            </p:stCondLst>
                            <p:childTnLst>
                              <p:par>
                                <p:cTn id="51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0677 -0.497 C -0.20347 -0.50278 -0.1993 -0.50649 -0.19496 -0.51019 C -0.19305 -0.51204 -0.18871 -0.51575 -0.18871 -0.51528 C -0.17812 -0.53403 -0.17309 -0.53172 -0.15868 -0.54491 C -0.15416 -0.54862 -0.15086 -0.55487 -0.14548 -0.55625 C -0.1243 -0.56297 -0.13073 -0.55579 -0.12083 -0.56667 E">
                                      <p:cBhvr>
                                        <p:cTn id="514" dur="3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24800"/>
                            </p:stCondLst>
                            <p:childTnLst>
                              <p:par>
                                <p:cTn id="51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584 -0.56667 C -0.15539 -0.57315 -0.16407 -0.58565 -0.17431 -0.58842 C -0.18611 -0.59167 -0.19775 -0.59259 -0.20938 -0.59467 C -0.22431 -0.60532 -0.2375 -0.62292 -0.25122 -0.63796 C -0.25434 -0.6412 -0.25938 -0.64954 -0.26285 -0.65023 C -0.26962 -0.65139 -0.27622 -0.65023 -0.28282 -0.65023 E">
                                      <p:cBhvr>
                                        <p:cTn id="517" dur="3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27800"/>
                            </p:stCondLst>
                            <p:childTnLst>
                              <p:par>
                                <p:cTn id="51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7448 -0.63218 C -0.27812 -0.64884 -0.28281 -0.66736 -0.29705 -0.6757 C -0.30069 -0.68403 -0.30538 -0.69121 -0.30989 -0.69884 C -0.31215 -0.70301 -0.31753 -0.70347 -0.32118 -0.70602 C -0.32534 -0.71551 -0.33125 -0.71852 -0.33889 -0.72408 C -0.35069 -0.73287 -0.3625 -0.74121 -0.37448 -0.74954 C -0.37777 -0.75185 -0.38055 -0.75486 -0.38402 -0.75671 C -0.38628 -0.75787 -0.38854 -0.75903 -0.39062 -0.76042 C -0.39392 -0.7625 -0.39705 -0.76505 -0.40017 -0.76759 C -0.40173 -0.76875 -0.40503 -0.77107 -0.40503 -0.77107 C -0.42847 -0.76991 -0.44323 -0.76806 -0.46475 -0.76574 C -0.47656 -0.76968 -0.47604 -0.76505 -0.47604 -0.77107 E">
                                      <p:cBhvr>
                                        <p:cTn id="520" dur="3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30800"/>
                            </p:stCondLst>
                            <p:childTnLst>
                              <p:par>
                                <p:cTn id="52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7603 -0.77223 C -0.48333 -0.79168 -0.47846 -0.78589 -0.48732 -0.79376 C -0.49166 -0.80533 -0.49426 -0.80441 -0.5019 -0.81089 C -0.50572 -0.82154 -0.5085 -0.82293 -0.51631 -0.82802 C -0.52048 -0.83913 -0.52482 -0.84978 -0.52933 -0.86043 C -0.53055 -0.8632 -0.53333 -0.87293 -0.53576 -0.87547 C -0.53714 -0.87686 -0.53905 -0.87686 -0.54062 -0.87756 C -0.54426 -0.88519 -0.54669 -0.89376 -0.55034 -0.90117 C -0.55242 -0.90556 -0.55676 -0.91413 -0.55676 -0.91413 C -0.55624 -0.91691 -0.55503 -0.92269 -0.55503 -0.92269 E">
                                      <p:cBhvr>
                                        <p:cTn id="523" dur="3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33800"/>
                            </p:stCondLst>
                            <p:childTnLst>
                              <p:par>
                                <p:cTn id="52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5503 -0.92246 C -0.5592 -0.91389 -0.56145 -0.91551 -0.56788 -0.91158 C -0.5776 -0.90556 -0.58645 -0.89977 -0.59687 -0.89653 C -0.6092 -0.89283 -0.62204 -0.89098 -0.63402 -0.88588 C -0.63246 -0.8845 -0.6309 -0.88264 -0.62916 -0.88149 C -0.62604 -0.87963 -0.61944 -0.87732 -0.61944 -0.87732 C -0.61788 -0.87593 -0.61631 -0.87408 -0.61458 -0.87292 C -0.61145 -0.87107 -0.60503 -0.86876 -0.60503 -0.86876 E">
                                      <p:cBhvr>
                                        <p:cTn id="526" dur="3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36800"/>
                            </p:stCondLst>
                            <p:childTnLst>
                              <p:par>
                                <p:cTn id="52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0503 -0.86852 C -0.63455 -0.88195 -0.66545 -0.87709 -0.69687 -0.87709 E">
                                      <p:cBhvr>
                                        <p:cTn id="529" dur="3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39800"/>
                            </p:stCondLst>
                            <p:childTnLst>
                              <p:par>
                                <p:cTn id="53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9687 -0.87709 C -0.69531 -0.8757 -0.6934 -0.87477 -0.69201 -0.87292 C -0.69062 -0.87107 -0.69045 -0.86806 -0.68889 -0.86644 C -0.68628 -0.86366 -0.68229 -0.86412 -0.67917 -0.86204 C -0.66701 -0.85394 -0.68142 -0.86111 -0.66944 -0.85579 C -0.66614 -0.8544 -0.66302 -0.85278 -0.65972 -0.85139 C -0.65816 -0.8507 -0.65503 -0.84931 -0.65503 -0.84931 C -0.65347 -0.84792 -0.65191 -0.84607 -0.65017 -0.84491 C -0.64861 -0.84398 -0.64653 -0.84445 -0.64531 -0.84283 C -0.62587 -0.8169 -0.64809 -0.8382 -0.63403 -0.82546 C -0.63194 -0.8213 -0.62969 -0.8169 -0.6276 -0.81273 C -0.62656 -0.81065 -0.6243 -0.80625 -0.6243 -0.80625 C -0.61667 -0.77662 -0.62014 -0.7588 -0.63889 -0.74167 C -0.64097 -0.73727 -0.64323 -0.7331 -0.64531 -0.72894 C -0.64635 -0.72662 -0.64844 -0.72246 -0.64844 -0.72246 C -0.64792 -0.71528 -0.64792 -0.7081 -0.64687 -0.70093 C -0.64427 -0.68148 -0.63941 -0.67917 -0.6276 -0.66852 C -0.6217 -0.6632 -0.61649 -0.6625 -0.60972 -0.65996 C -0.60642 -0.6588 -0.60017 -0.65579 -0.60017 -0.65579 C -0.58889 -0.6456 -0.60017 -0.65371 -0.59687 -0.65996 C -0.59583 -0.66181 -0.59358 -0.65857 -0.59201 -0.65787 C -0.58715 -0.64769 -0.58715 -0.63843 -0.58715 -0.62546 E">
                                      <p:cBhvr>
                                        <p:cTn id="532" dur="3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42800"/>
                            </p:stCondLst>
                            <p:childTnLst>
                              <p:par>
                                <p:cTn id="53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8715 -0.62547 C -0.59982 -0.63218 -0.61041 -0.64329 -0.62256 -0.65116 C -0.6434 -0.65047 -0.69756 -0.65672 -0.71944 -0.62755 E">
                                      <p:cBhvr>
                                        <p:cTn id="535" dur="3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45800"/>
                            </p:stCondLst>
                            <p:childTnLst>
                              <p:par>
                                <p:cTn id="53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45800"/>
                            </p:stCondLst>
                            <p:childTnLst>
                              <p:par>
                                <p:cTn id="54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47800"/>
                            </p:stCondLst>
                            <p:childTnLst>
                              <p:par>
                                <p:cTn id="54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7.40741E-007 C -0.01111 0.01504 -0.00521 0.01157 -0.01597 0.01504 C -0.02361 0.02523 -0.02986 0.03426 -0.04028 0.03866 C -0.0467 0.04722 -0.05139 0.05579 -0.05798 0.06458 C -0.05972 0.0669 -0.05972 0.0706 -0.06128 0.07315 C -0.06302 0.07592 -0.06597 0.07685 -0.06771 0.07963 C -0.07031 0.08333 -0.07205 0.08819 -0.07413 0.09236 C -0.07517 0.09444 -0.07743 0.09884 -0.07743 0.09884 C -0.07691 0.10254 -0.07708 0.10648 -0.07569 0.10972 C -0.07465 0.11204 -0.07222 0.11204 -0.07083 0.11389 C -0.06354 0.12361 -0.07239 0.11829 -0.06285 0.12245 C -0.0618 0.12454 -0.06146 0.12847 -0.05955 0.12893 C -0.05798 0.12917 -0.04687 0.12176 -0.04514 0.12037 C -0.04184 0.11759 -0.03542 0.1118 -0.03542 0.1118 C -0.01215 0.11481 -0.02344 0.10903 -0.01441 0.12685 C -0.00937 0.14768 -0.00781 0.17106 0.00972 0.17847 C 0.01493 0.1831 0.01979 0.18657 0.02587 0.18912 C 0.0342 0.19653 0.04219 0.19236 0.05 0.18495 C 0.06077 0.17477 0.0717 0.16713 0.07917 0.15254 C 0.07969 0.15046 0.07986 0.14815 0.08073 0.14629 C 0.08195 0.14375 0.08455 0.14259 0.08559 0.13981 C 0.0875 0.13449 0.08733 0.12801 0.08872 0.12245 C 0.07813 0.10116 0.09514 0.1331 0.07917 0.1118 C 0.07743 0.10949 0.0783 0.10393 0.07587 0.10324 C 0.06111 0.0993 0.04583 0.10023 0.03073 0.09884 C 0.01528 0.09305 0.02309 0.09768 0.00972 0.08588 C 0.00816 0.08449 0.00643 0.0831 0.00486 0.08171 C 0.0033 0.08032 1.94444E-006 0.07731 1.94444E-006 0.07731 C -0.00746 0.0618 0.00226 0.07963 -0.00955 0.06667 C -0.01441 0.06134 -0.01701 0.04792 -0.01927 0.04074 C -0.01771 0.01944 -0.02222 0.02222 -0.01285 0.01504 C -0.0066 0.01018 -0.00868 0.01065 -0.00469 0.01065 E">
                                      <p:cBhvr>
                                        <p:cTn id="548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49800"/>
                            </p:stCondLst>
                            <p:childTnLst>
                              <p:par>
                                <p:cTn id="55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50300"/>
                            </p:stCondLst>
                            <p:childTnLst>
                              <p:par>
                                <p:cTn id="55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4444E-006 -2.59259E-006 C 0.01024 0.00324 0.02065 0.0051 0.03072 0.00857 C 0.03697 0.01088 0.04357 0.01551 0.04999 0.01713 C 0.05347 0.01806 0.05937 0.01899 0.06284 0.02153 C 0.06614 0.02408 0.07256 0.0301 0.07256 0.0301 C 0.08176 0.06482 0.09426 0.06389 0.11944 0.06667 C 0.12604 0.06829 0.13229 0.07084 0.13871 0.07315 C 0.16718 0.07176 0.19583 0.0713 0.2243 0.06875 C 0.24235 0.06713 0.25347 0.04375 0.26458 0.04283 C 0.28055 0.04144 0.2967 0.04283 0.31284 0.04283 E">
                                      <p:cBhvr>
                                        <p:cTn id="555" dur="3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53300"/>
                            </p:stCondLst>
                            <p:childTnLst>
                              <p:par>
                                <p:cTn id="55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151 0.04214 C 0.30226 0.04514 0.28906 0.04746 0.27673 0.05325 C 0.27292 0.05695 0.2691 0.06065 0.2651 0.06436 C 0.26354 0.06598 0.26007 0.06876 0.26007 0.06876 C 0.25816 0.07269 0.25347 0.07501 0.2533 0.07987 C 0.25226 0.10903 0.25382 0.1176 0.25677 0.13982 C 0.25746 0.15186 0.25434 0.16621 0.26007 0.17547 C 0.26406 0.18195 0.27292 0.18264 0.2783 0.18427 C 0.29167 0.1882 0.30503 0.19121 0.3184 0.19538 C 0.32014 0.19769 0.32135 0.20047 0.32344 0.20209 C 0.32864 0.20602 0.3401 0.21112 0.3401 0.21112 C 0.34236 0.21413 0.3441 0.2176 0.3467 0.21991 C 0.34809 0.2213 0.35035 0.22084 0.35173 0.22223 C 0.3533 0.22385 0.35382 0.22686 0.35503 0.22871 C 0.35764 0.23264 0.36059 0.23612 0.36337 0.23982 C 0.36441 0.24144 0.36667 0.24445 0.36667 0.24445 C 0.3684 0.25116 0.37309 0.26158 0.37673 0.26667 C 0.3809 0.28427 0.375 0.26274 0.38177 0.27778 C 0.38871 0.29329 0.37743 0.27616 0.38663 0.28889 C 0.3901 0.30209 0.39826 0.31343 0.40833 0.3176 C 0.41267 0.32362 0.41614 0.32339 0.4217 0.32663 C 0.42621 0.3294 0.43507 0.33542 0.43507 0.33542 C 0.43819 0.33959 0.44219 0.34214 0.44496 0.34653 C 0.45885 0.36783 0.44392 0.35371 0.46007 0.36667 C 0.46389 0.37408 0.46528 0.37709 0.4717 0.37987 C 0.47344 0.38218 0.47465 0.38496 0.47673 0.38658 C 0.47969 0.38889 0.48663 0.39098 0.48663 0.39098 C 0.48785 0.39329 0.48854 0.39584 0.4901 0.39769 C 0.49305 0.40116 0.5 0.40649 0.5 0.40649 C 0.50434 0.41552 0.51094 0.42084 0.51667 0.42871 C 0.51979 0.43288 0.5217 0.43843 0.525 0.44214 C 0.52639 0.44376 0.52847 0.44329 0.53003 0.44445 C 0.53177 0.44561 0.53351 0.447 0.53507 0.44885 C 0.54462 0.45996 0.54965 0.46852 0.56007 0.47778 C 0.56528 0.48241 0.56771 0.49214 0.57344 0.49538 C 0.58177 0.50001 0.58837 0.50718 0.5967 0.51112 C 0.60399 0.52385 0.61337 0.53102 0.6217 0.54214 C 0.62604 0.55927 0.61979 0.53866 0.6283 0.55325 C 0.62934 0.5551 0.62917 0.55788 0.63003 0.55996 C 0.63246 0.56621 0.63472 0.57269 0.63837 0.57778 C 0.64219 0.59214 0.64219 0.61482 0.65677 0.61552 C 0.67222 0.61621 0.68785 0.61552 0.7033 0.61552 E">
                                      <p:cBhvr>
                                        <p:cTn id="558" dur="3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56300"/>
                            </p:stCondLst>
                            <p:childTnLst>
                              <p:par>
                                <p:cTn id="56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033 0.61551 C 0.69583 0.61713 0.68889 0.61921 0.6816 0.62222 C 0.68056 0.62454 0.67951 0.62685 0.6783 0.62893 C 0.67726 0.63055 0.675 0.63125 0.67483 0.63333 C 0.67431 0.63842 0.6757 0.64375 0.67656 0.64884 C 0.67691 0.65116 0.67708 0.65393 0.6783 0.65555 C 0.67951 0.65717 0.6816 0.65717 0.68316 0.65787 C 0.69011 0.66666 0.70365 0.67106 0.7132 0.67106 E">
                                      <p:cBhvr>
                                        <p:cTn id="561" dur="3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59300"/>
                            </p:stCondLst>
                            <p:childTnLst>
                              <p:par>
                                <p:cTn id="56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1319 0.67106 C 0.70399 0.66273 0.70139 0.65856 0.68993 0.65347 C 0.68229 0.6463 0.67795 0.63588 0.66996 0.62893 C 0.66632 0.62153 0.66284 0.6169 0.65989 0.60903 C 0.66163 0.5919 0.66284 0.57454 0.66996 0.55995 C 0.67239 0.55 0.67882 0.53333 0.68333 0.52454 C 0.68593 0.51412 0.68975 0.50185 0.69166 0.4912 C 0.69375 0.4787 0.69618 0.46643 0.70156 0.45555 C 0.70503 0.43796 0.70868 0.41528 0.71666 0.4 C 0.72031 0.37384 0.71614 0.40046 0.71996 0.38218 C 0.72118 0.37639 0.72326 0.36458 0.72326 0.36458 C 0.72482 0.33055 0.72326 0.29606 0.72656 0.26227 C 0.72708 0.25718 0.74218 0.25509 0.74826 0.25347 C 0.75191 0.24838 0.75 0.24884 0.75329 0.24884 E">
                                      <p:cBhvr>
                                        <p:cTn id="564" dur="3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Introduction To Quarter 12 Lessons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Third Missionary Journe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rted about A. D. 5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oute similar to the second journe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ro was the Roman Emper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uring this time books were writt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alatia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 Corinthia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 Corinthia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oma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67BF-3A11-4B5A-B8AA-E92671065EFC}" type="slidenum">
              <a:t>26</a:t>
            </a:fld>
          </a:p>
        </p:txBody>
      </p:sp>
    </p:spTree>
  </p:cSld>
  <p:transition spd="med">
    <p:circle/>
  </p:transition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Introduction To Quarter 12 Lessons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ul returned to Jerusalem – arres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founded accusations ma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fter two years, he was taken to Ro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ul remained a  prisoner in Rome for two yea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om there, he wrot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phesians, Colossians, Philippia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wo letters to Timothy and one to Tit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ul’s work was finish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89B8-98DC-438E-B52B-54EC47E40F85}" type="slidenum">
              <a:t>27</a:t>
            </a:fld>
          </a:p>
        </p:txBody>
      </p:sp>
    </p:spTree>
  </p:cSld>
  <p:transition spd="med">
    <p:circle/>
  </p:transition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The Great Commission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Mark 16:15-16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sus to His apostl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Go into all the world and preach the gospel to every creature.  He who believes and is baptized will be saved; but he who does not believe will be condemned.”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work begins with two result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edience to the terms of salv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secution by unbeliev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8C4E-5CC8-4C64-AED1-96D187221DEA}" type="slidenum">
              <a:t>3</a:t>
            </a:fld>
          </a:p>
        </p:txBody>
      </p:sp>
    </p:spTree>
  </p:cSld>
  <p:transition spd="med">
    <p:circl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The Work Begins</a:t>
            </a:r>
            <a:br>
              <a:rPr sz="4000"/>
            </a:b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Acts 1-2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sus ascen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tthias chos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 Pentecost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ostles filled with the Holy Spir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ter’s serm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rst offering of “The Plan of Salvation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,000 souls added to the chur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church of Christ was establish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256F-484B-43E2-812B-F6B1287593B8}" type="slidenum">
              <a:t>4</a:t>
            </a:fld>
          </a:p>
        </p:txBody>
      </p:sp>
    </p:spTree>
  </p:cSld>
  <p:transition spd="med">
    <p:circl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Conflicts Begin</a:t>
            </a:r>
            <a:br>
              <a:rPr sz="4000"/>
            </a:b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Acts 3-7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ter and John performed a miracle and was taken into custod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y?  They preached Jesus – His death, His resurrection, His promise of salv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church still grew in number and the shared their possess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anias and Sapphira lied to G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st them their liv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3F40-77CF-4C40-A325-3419C79264C1}" type="slidenum">
              <a:t>5</a:t>
            </a:fld>
          </a:p>
        </p:txBody>
      </p:sp>
    </p:spTree>
  </p:cSld>
  <p:transition spd="med">
    <p:circl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More Conflicts</a:t>
            </a:r>
            <a:br>
              <a:rPr sz="4000"/>
            </a:b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Acts 3-7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9250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aching and healing continu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apostles were arrested but said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We must obey God rather than men.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pon release, the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joiced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elt honored to suffer persecutions, an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ept on preach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08D5-3E5B-4332-A800-EDB038BDBE63}" type="slidenum">
              <a:t>6</a:t>
            </a:fld>
          </a:p>
        </p:txBody>
      </p:sp>
    </p:spTree>
  </p:cSld>
  <p:transition spd="med">
    <p:circl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Severe Persecutions Begin</a:t>
            </a:r>
            <a:br>
              <a:rPr sz="4000"/>
            </a:b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Acts 3-7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9250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rmuring within the church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Grecian Jews complained about their people being neglec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 men selected to resolve the probl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ephen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ked miracles and preached their histo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cusations against him caused a sti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ephen stoned to death – 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arty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young man Saul approv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92B1-879F-4B26-8875-36DCAF34EDA5}" type="slidenum">
              <a:t>7</a:t>
            </a:fld>
          </a:p>
        </p:txBody>
      </p:sp>
    </p:spTree>
  </p:cSld>
  <p:transition spd="med">
    <p:circl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The Church Is Scattered</a:t>
            </a:r>
            <a:br>
              <a:rPr sz="4000"/>
            </a:b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Acts 8-12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re persecutions continu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xt step in God’ pla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...and you shall be witnesses to Me in Jerusalem, and in all Judea and Samaria, and to the end of the earth.”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Acts 1:8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hilip preached in Samari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ny accepted the Word by being baptiz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Holy Spirit given to others in Samar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549D-35D5-4701-AD50-202AD7BD371D}" type="slidenum">
              <a:t>8</a:t>
            </a:fld>
          </a:p>
        </p:txBody>
      </p:sp>
    </p:spTree>
  </p:cSld>
  <p:transition spd="med">
    <p:circle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The Church Is Scattered</a:t>
            </a:r>
            <a:br>
              <a:rPr sz="4000"/>
            </a:b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Acts 8-12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hilip converted the Ethiopian eunu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Word went beyond Judah and Samar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ul was converted in Damasc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de a special apost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ter’s first sermon to Genti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rnelius and his household believed and was baptiz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Holy Spirit came upon th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B20F-43D2-4837-AFA1-A61C51EE3FD9}" type="slidenum">
              <a:t>9</a:t>
            </a:fld>
          </a:p>
        </p:txBody>
      </p:sp>
    </p:spTree>
  </p:cSld>
  <p:transition spd="med">
    <p:circle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9T20:47:20Z</dcterms:created>
  <dc:creator>Frank D Vines</dc:creator>
  <dc:description/>
  <dc:language>en-US</dc:language>
  <cp:lastModifiedBy>Frank D Vines</cp:lastModifiedBy>
  <dcterms:modified xsi:type="dcterms:W3CDTF">2007-03-28T23:22:16Z</dcterms:modified>
  <cp:revision>2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